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4.png" ContentType="image/pn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2098-CFDB-466B-B5CE-FAB26E6B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15F1-DFA1-4239-B126-F50FBB41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4C8-76CA-4DB5-8C44-E170228B5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8A6F-78B6-4BA5-BD8B-EE3F0168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63BF-2FD0-4AEE-8F31-D8F3F820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0F4-57B2-4487-AF23-79DC8216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C977-A545-48EE-9D4F-EBB10CBF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FA2-169D-41D8-AF84-2FE00604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E109-68EF-4CDD-95D0-6C2652D3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CD5-D7CA-45A3-95D8-D77BE8FF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B14F-2776-46B3-8043-614E08E9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8080-F24E-4484-AC30-33517A4D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4D01-A59F-4A8B-8E67-9AB5C2862E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uk-UA" sz="2800" spc="-1" strike="noStrike" u="sng">
                <a:solidFill>
                  <a:srgbClr val="a50021"/>
                </a:solidFill>
                <a:uFillTx/>
                <a:latin typeface="Times New Roman"/>
              </a:rPr>
              <a:t>Принципи створення та використання електронних посібників на заняттях   інформатики та комп’ютерної техніки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0" i="1" lang="uk-UA" sz="2000" spc="-1" strike="noStrike">
                <a:solidFill>
                  <a:srgbClr val="333300"/>
                </a:solidFill>
                <a:latin typeface="Times New Roman"/>
              </a:rPr>
              <a:t>План виступу: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Вступ.</a:t>
            </a:r>
            <a:br>
              <a:rPr sz="2200"/>
            </a:b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лектронні посібники, як сучасна технологія в освіті</a:t>
            </a:r>
            <a:br>
              <a:rPr sz="2200"/>
            </a:b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гальні вимоги до розробки електронного посібника</a:t>
            </a:r>
            <a:br>
              <a:rPr sz="2200"/>
            </a:b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Етапи створення навчальних електронних посібників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Інструментальні засоби створення електронного посібника</a:t>
            </a:r>
            <a:br>
              <a:rPr sz="2200"/>
            </a:b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Переваги та недоліки використання електронних посібників в навчальному процесі</a:t>
            </a:r>
            <a:br>
              <a:rPr sz="2200"/>
            </a:b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Форми роботи при використанні  електронних посібників та інших комп’ютерних технологій</a:t>
            </a:r>
            <a:br>
              <a:rPr sz="2200"/>
            </a:b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Виснов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304920" y="-104760"/>
            <a:ext cx="9753840" cy="70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етодичні рекомендації з вивчення курс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теоретичний матері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актикум для вироблення умінь і навичок застосування теоретичних знань із прикладами виконання завдань і аналізом найчастіше вживаних помило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іртуальний лабораторний практику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овідковий матеріа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глосарі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истему тестування і контролю зна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55640" y="333360"/>
            <a:ext cx="77770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radley Hand ITC"/>
              </a:rPr>
              <a:t>Вимоги до розробки </a:t>
            </a:r>
            <a:endParaRPr b="0" lang="en-US" sz="32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radley Hand ITC"/>
              <a:ea typeface="Bradley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radley Hand ITC"/>
              </a:rPr>
              <a:t>електронного посібника</a:t>
            </a:r>
            <a:endParaRPr b="0" lang="en-US" sz="3200" spc="1" strike="noStrike">
              <a:ln w="0">
                <a:noFill/>
              </a:ln>
              <a:solidFill>
                <a:srgbClr val="99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radley Hand ITC"/>
              <a:ea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64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Попередній  етап</a:t>
            </a:r>
            <a:r>
              <a:rPr b="0" lang="uk-UA" sz="2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Вибір навчального курс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Визначення рівня загальної підготовки та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рівня комп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ютерних знан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Написання тексту  навчального  курс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Підбір ілюстративного і довідкового  матеріал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Створення ескізів інтерфейс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Написання сценарію програми та окремих блокі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Arial"/>
              </a:rPr>
              <a:t>Різні варіанти представлення навчального матеріал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948360" y="2781360"/>
            <a:ext cx="1986120" cy="2016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276120" y="260280"/>
            <a:ext cx="861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Етапи створення навчальних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oudy Stout"/>
              </a:rPr>
              <a:t>електронних посібників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oudy Stout"/>
              <a:ea typeface="Goudy Sto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e4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Imprint MT Shadow"/>
              </a:rPr>
              <a:t>Рекомендації для підготовчої роботи по створенню електронного посіб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Створити електронну версію в текстовому редактор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струментальні зас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Формульний ред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ставка зображ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труктурування матеріа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іпертекстові посил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береження тексту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-форма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138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cc7a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00"/>
                </a:solidFill>
                <a:latin typeface="Times New Roman"/>
              </a:rPr>
              <a:t>Основний    е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5688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міст курс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а  представлення матеріалу: 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 - 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гарнітура шрифт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- графічні зображенн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uk-UA" sz="2800" spc="-1" strike="noStrike">
                <a:solidFill>
                  <a:srgbClr val="000000"/>
                </a:solidFill>
                <a:latin typeface="Georgia"/>
              </a:rPr>
              <a:t>- апаратні засо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659640" y="371628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16000" y="119700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ff"/>
                </a:solidFill>
                <a:latin typeface="Arial"/>
              </a:rPr>
              <a:t>Безпосередня робота зі створення  навчального кур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deb1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0000"/>
                </a:solidFill>
                <a:latin typeface="Arial"/>
              </a:rPr>
              <a:t>Завершальний е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6408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естування навчального кур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опрацювання електронного посіб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еєстрація мультимедіа-курсу як інтелектуальної влас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иражу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упровід кур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отримання   </a:t>
            </a:r>
            <a:r>
              <a:rPr b="0" lang="uk-UA" sz="2800" spc="-1" strike="noStrike" u="sng">
                <a:solidFill>
                  <a:srgbClr val="cc0000"/>
                </a:solidFill>
                <a:uFillTx/>
                <a:latin typeface="Arial"/>
              </a:rPr>
              <a:t>Закону   про    електронні документи та електронний документообі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093080" y="4581360"/>
            <a:ext cx="16952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a35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PromtImperial"/>
              </a:rPr>
              <a:t>Інструментальні засоби створення електронного посіб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497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Times New Roman"/>
              </a:rPr>
              <a:t>Використання </a:t>
            </a: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i="1" lang="uk-UA" sz="3300" spc="-1" strike="noStrike">
                <a:solidFill>
                  <a:srgbClr val="000000"/>
                </a:solidFill>
                <a:latin typeface="Times New Roman"/>
              </a:rPr>
              <a:t>-броузерів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Times New Roman"/>
              </a:rPr>
              <a:t>Мова розмітки гіпертексту </a:t>
            </a: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uk-UA" sz="3300" spc="-1" strike="noStrike">
                <a:solidFill>
                  <a:srgbClr val="000000"/>
                </a:solidFill>
                <a:latin typeface="Times New Roman"/>
              </a:rPr>
              <a:t>-конвертер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Times New Roman"/>
              </a:rPr>
              <a:t>Текстові редактори </a:t>
            </a:r>
            <a:r>
              <a:rPr b="0" i="1" lang="uk-UA" sz="3300" spc="-1" strike="noStrike">
                <a:solidFill>
                  <a:srgbClr val="000000"/>
                </a:solidFill>
                <a:latin typeface="Times New Roman"/>
              </a:rPr>
              <a:t>Блокнот, </a:t>
            </a: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NotePad, WordPa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Times New Roman"/>
              </a:rPr>
              <a:t>Графічні редактори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FrameMaker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Web Publishe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uk-UA" sz="3300" spc="-1" strike="noStrike">
                <a:solidFill>
                  <a:srgbClr val="000000"/>
                </a:solidFill>
                <a:latin typeface="Times New Roman"/>
              </a:rPr>
              <a:t>редактори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( </a:t>
            </a:r>
            <a:r>
              <a:rPr b="0" lang="uk-UA" sz="3300" spc="-1" strike="noStrike">
                <a:solidFill>
                  <a:srgbClr val="000000"/>
                </a:solidFill>
                <a:latin typeface="Times New Roman"/>
              </a:rPr>
              <a:t>наприклад, </a:t>
            </a: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FrontPage</a:t>
            </a: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660066"/>
                </a:solidFill>
                <a:latin typeface="Arial"/>
              </a:rPr>
              <a:t>Педагог має подбати про те, щоб якомога більше органів чуття – око, вухо, голос, чуття мускульних рухів… взяли участь в акті запам’ятовуван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660066"/>
                </a:solidFill>
                <a:latin typeface="Arial"/>
              </a:rPr>
              <a:t>За такого дружного сприяння всіх органів в акті  засвоєння ви переможете найлінивішу пам'ять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К.Ушинс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9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42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аксимальний зв’язок з робочою програмою викла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Швидкість оновл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Ефективність проведення контро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ідвищення наоч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окращення продуктивності занятт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Міжпредметні з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яз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Логічність подання матеріа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Нижча вартість, ніж підруч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Дистанційне навч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26920" y="333360"/>
            <a:ext cx="7490160" cy="11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nstantia"/>
              </a:rPr>
              <a:t>Переваги використання 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nstantia"/>
              </a:rPr>
              <a:t>електронних посібників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3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6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8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10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a8d2d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2004840"/>
            <a:ext cx="8229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вчення  (або повторення) теми занятт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астосування мультимедійних засобів (презентаці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користанн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et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ля науково-дослідних завдань і гурткової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оведення опитувань, тестувань, тематичного оцінюв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Самостійна робота студен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5280" y="333360"/>
            <a:ext cx="82090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и роботи при використанні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лектронних посібників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1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7ed2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imes New Roman"/>
              </a:rPr>
              <a:t>В и с н о в к 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Arial"/>
              </a:rPr>
              <a:t>Електронні посібники є складними програмними продук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Arial"/>
              </a:rPr>
              <a:t>Електронний посібник розробляється як відкрита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Arial"/>
              </a:rPr>
              <a:t>Ефективність використання ЕП   в учбовому проце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Arial"/>
              </a:rPr>
              <a:t>Основа електронної бібліотеки колед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400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cc"/>
                </a:solidFill>
                <a:latin typeface="Arial"/>
              </a:rPr>
              <a:t>Інформаційні технології, які використовуються в навчальному проце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93356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00000"/>
                </a:solidFill>
                <a:latin typeface="Arial"/>
              </a:rPr>
              <a:t>Електронні бібліот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00000"/>
                </a:solidFill>
                <a:latin typeface="Arial"/>
              </a:rPr>
              <a:t>Гібридні бібліот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00000"/>
                </a:solidFill>
                <a:latin typeface="Arial"/>
              </a:rPr>
              <a:t>Електронні посіб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00000"/>
                </a:solidFill>
                <a:latin typeface="Arial"/>
              </a:rPr>
              <a:t>Довідково-пошукові системи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00000"/>
                </a:solidFill>
                <a:latin typeface="Arial"/>
              </a:rPr>
              <a:t>Віртуальні лаборатор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00000"/>
                </a:solidFill>
                <a:latin typeface="Arial"/>
              </a:rPr>
              <a:t>Мультимедійні презент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00000"/>
                </a:solidFill>
                <a:latin typeface="Arial"/>
              </a:rPr>
              <a:t>Інтерактивні  т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2f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Times New Roman"/>
              </a:rPr>
              <a:t>Функції, які має поєднувати електронний посіб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ру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л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овідково-інформаційний посіб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нсуль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ренаж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нтролююючий засі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2f"/>
            </a:gs>
            <a:gs pos="50000">
              <a:srgbClr val="ffcc66"/>
            </a:gs>
            <a:gs pos="100000">
              <a:srgbClr val="755e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63300"/>
                </a:solidFill>
                <a:latin typeface="Georgia"/>
              </a:rPr>
              <a:t>Системний підхід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0" y="1626120"/>
            <a:ext cx="9144000" cy="43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0" i="1" lang="uk-UA" sz="2200" spc="-1" strike="noStrike">
                <a:solidFill>
                  <a:srgbClr val="800000"/>
                </a:solidFill>
                <a:latin typeface="Arial"/>
              </a:rPr>
              <a:t>Використання системного підходу до розробки електронни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i="1" lang="uk-UA" sz="2200" spc="-1" strike="noStrike">
                <a:solidFill>
                  <a:srgbClr val="800000"/>
                </a:solidFill>
                <a:latin typeface="Arial"/>
              </a:rPr>
              <a:t>навчальних посібників дозволяє зробити серйозний крок н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i="1" lang="uk-UA" sz="2200" spc="-1" strike="noStrike">
                <a:solidFill>
                  <a:srgbClr val="800000"/>
                </a:solidFill>
                <a:latin typeface="Arial"/>
              </a:rPr>
              <a:t>шляху переходу від пізнавальної до прагматичної моделі</a:t>
            </a:r>
            <a:br>
              <a:rPr sz="2200"/>
            </a:br>
            <a:r>
              <a:rPr b="0" i="1" lang="uk-UA" sz="2200" spc="-1" strike="noStrike">
                <a:solidFill>
                  <a:srgbClr val="800000"/>
                </a:solidFill>
                <a:latin typeface="Arial"/>
              </a:rPr>
              <a:t>  освіти і сприяє рішенню проблем створення посібників нового</a:t>
            </a:r>
            <a:br>
              <a:rPr sz="2200"/>
            </a:br>
            <a:r>
              <a:rPr b="0" i="1" lang="uk-UA" sz="2200" spc="-1" strike="noStrike">
                <a:solidFill>
                  <a:srgbClr val="800000"/>
                </a:solidFill>
                <a:latin typeface="Arial"/>
              </a:rPr>
              <a:t>  покоління, що дають можливіст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більшити кількість  користувачів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підвищити наочність представлення матеріалу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використовувати електронний посібник тривалий час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вести до мінімуму витрати на пошук і підбір літератур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здійснювати контроль отриманих знан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8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828720" y="84240"/>
            <a:ext cx="7345440" cy="523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929200" y="476280"/>
            <a:ext cx="6429600" cy="4581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92360" y="3284640"/>
            <a:ext cx="642924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0"/>
          <a:ext cx="9180360" cy="7164360"/>
        </p:xfrm>
        <a:graphic>
          <a:graphicData uri="http://schemas.openxmlformats.org/drawingml/2006/table">
            <a:tbl>
              <a:tblPr/>
              <a:tblGrid>
                <a:gridCol w="1297080"/>
                <a:gridCol w="1008000"/>
                <a:gridCol w="3192480"/>
                <a:gridCol w="36828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80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1" i="1" lang="uk-UA" sz="1300" spc="-1" strike="noStrike">
                          <a:solidFill>
                            <a:srgbClr val="000080"/>
                          </a:solidFill>
                          <a:latin typeface="Times New Roman"/>
                          <a:ea typeface="Calibri"/>
                        </a:rPr>
                        <a:t>поколі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80"/>
                          </a:solidFill>
                          <a:latin typeface="Times New Roman"/>
                          <a:ea typeface="Calibri"/>
                        </a:rPr>
                        <a:t>Роки, столітт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80"/>
                          </a:solidFill>
                          <a:latin typeface="Times New Roman"/>
                          <a:ea typeface="Calibri"/>
                        </a:rPr>
                        <a:t>Елементна база Е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300" spc="-1" strike="noStrike">
                          <a:solidFill>
                            <a:srgbClr val="000080"/>
                          </a:solidFill>
                          <a:latin typeface="Times New Roman"/>
                          <a:ea typeface="Calibri"/>
                        </a:rPr>
                        <a:t>Основні характеристики ЕО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Перше поколі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Кінець 40-х – початок 50-х років ХХ столі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0" lang="uk-UA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Вакуумні електронні ламп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0" lang="uk-UA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Комп</a:t>
                      </a:r>
                      <a:r>
                        <a:rPr b="0" lang="ru-RU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’</a:t>
                      </a:r>
                      <a:r>
                        <a:rPr b="0" lang="uk-UA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ютерні програми потрібно було писати  в машинних код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0" lang="uk-UA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Як носії  інформації використовувалися перфострічки, перфокар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0" lang="uk-UA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Дуже великі габарити  машин (важила така машина десятки тонн)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0" lang="uk-UA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 Невелика швидкодія – декілька тисяч операцій за секунд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0" lang="uk-UA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Велика енергоємніст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7e39"/>
                          </a:solidFill>
                          <a:latin typeface="Times New Roman"/>
                          <a:ea typeface="Calibri"/>
                        </a:rPr>
                        <a:t>-Трудомісткість програмуванн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00"/>
                      </a:solidFill>
                    </a:lnL>
                    <a:lnR w="5760">
                      <a:solidFill>
                        <a:srgbClr val="003300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0033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Друге поколі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Кінець 50-х – початок  60-х років ХХ столі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-Напівпровідникові елементи (транзистори, діоди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-З</a:t>
                      </a:r>
                      <a:r>
                        <a:rPr b="0" lang="ru-RU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’</a:t>
                      </a: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явилися мови програмування високого рівня та програмне забезпеченн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- Як носії  інформаціїі застосовувалися магнітні стріч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-Користувач працював безпосередньо за пультом керуванн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- Розміри комп’ютера зменшили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- Споживання електроенергії зменшило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- Швидкодія машин досягла сотень тисяч операцій за секунд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7030a0"/>
                          </a:solidFill>
                          <a:latin typeface="Times New Roman"/>
                          <a:ea typeface="Calibri"/>
                        </a:rPr>
                        <a:t>- Збільшилася ємність запам’ятовуючих пристрої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003300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943634"/>
                          </a:solidFill>
                          <a:latin typeface="Times New Roman"/>
                          <a:ea typeface="Calibri"/>
                        </a:rPr>
                        <a:t>Третє поколі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632423"/>
                          </a:solidFill>
                          <a:latin typeface="Times New Roman"/>
                          <a:ea typeface="Calibri"/>
                        </a:rPr>
                        <a:t>Кінець 60-х – початок 80-х років ХХ столі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632423"/>
                          </a:solidFill>
                          <a:latin typeface="Times New Roman"/>
                          <a:ea typeface="Calibri"/>
                        </a:rPr>
                        <a:t>-Інтегровані пристрої (інтегральні мікросхеми, чіпи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632423"/>
                          </a:solidFill>
                          <a:latin typeface="Times New Roman"/>
                          <a:ea typeface="Calibri"/>
                        </a:rPr>
                        <a:t>-Використовувалися термінали (клавіатура, дисплей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632423"/>
                          </a:solidFill>
                          <a:latin typeface="Times New Roman"/>
                          <a:ea typeface="Calibri"/>
                        </a:rPr>
                        <a:t>-Магнітні носії інформації витіснили паперові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632423"/>
                          </a:solidFill>
                          <a:latin typeface="Times New Roman"/>
                          <a:ea typeface="Calibri"/>
                        </a:rPr>
                        <a:t>-Розвинулось програмне забезпеченн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632423"/>
                          </a:solidFill>
                          <a:latin typeface="Times New Roman"/>
                          <a:ea typeface="Calibri"/>
                        </a:rPr>
                        <a:t>-Швидкодія зросла до кількох мільйонів операцій за секунд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632423"/>
                          </a:solidFill>
                          <a:latin typeface="Times New Roman"/>
                          <a:ea typeface="Calibri"/>
                        </a:rPr>
                        <a:t>-Складати програми стало можливим простим користувачам, а не тільки спеціалістам-електронщи-кам  завдяки мовам програмування високого рівн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Четверте поколі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80-ті ро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ХХ столі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Великі інтегральні схе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Розробка  однокристальних процесорів (мікро-процесорів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Поява персональних комп’ютері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Перший 4-розрядний  мікропроцесор містив 2250 транзисторів і виконував 60 тис. операцій за секунд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 Пізніше збільшилась швидкодія до мільярда операцій за секунд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Збільшилась ємність оперативної памяті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Поліпшилась зручність у користуванні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Крім ПК, використовувалися також обчислювальні машини-мейнфрейми для виконання складних робі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r>
                        <a:rPr b="0" lang="en-US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’</a:t>
                      </a: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яте поколі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90-</a:t>
                      </a: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ті ро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ХХ столітт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-Надвеликі  інтегральні схем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-Розробка багатопроцесорних сист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-Комп</a:t>
                      </a:r>
                      <a:r>
                        <a:rPr b="0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’</a:t>
                      </a: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ютери-сервери, периферійна техні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-Операційні системи з графічним інтерфейс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-Швидкодія від 1млрд. до 1 трильйона операцій за секунд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-Комп</a:t>
                      </a:r>
                      <a:r>
                        <a:rPr b="0" lang="ru-RU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’</a:t>
                      </a: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ютери були з’єднані в мережі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990033"/>
                          </a:solidFill>
                          <a:latin typeface="Times New Roman"/>
                          <a:ea typeface="Calibri"/>
                        </a:rPr>
                        <a:t>-Прикладні програми використовуються в  різних сферах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9966"/>
                      </a:solidFill>
                    </a:lnL>
                    <a:lnR w="5760">
                      <a:solidFill>
                        <a:srgbClr val="cc9966"/>
                      </a:solidFill>
                    </a:lnR>
                    <a:lnT w="5760">
                      <a:solidFill>
                        <a:srgbClr val="cc9966"/>
                      </a:solidFill>
                    </a:lnT>
                    <a:lnB w="5760">
                      <a:solidFill>
                        <a:srgbClr val="cc9966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5:48:09Z</dcterms:created>
  <dc:creator>User</dc:creator>
  <dc:description/>
  <dc:language>en-US</dc:language>
  <cp:lastModifiedBy>Customer</cp:lastModifiedBy>
  <dcterms:modified xsi:type="dcterms:W3CDTF">2009-09-24T04:33:15Z</dcterms:modified>
  <cp:revision>40</cp:revision>
  <dc:subject/>
  <dc:title>           Принципи створення та використання електронних посібників на заняттях   інформатики та комп’ютерної техніки    План виступу: 1. Вступ. 2. Електронні посібники, як сучасна технологія в освіті 3. Загальні вимоги до розробки електронного посібника 4. Етапи створення навчальних електронних посібників 5. Інструментальні засоби створення електронного посібника 6. Переваги та недоліки використання електронних посібників в навчальному процесі 7. Форми роботи при використанні  електронних посібників та інших комп’ютерних технологій 8. Висновки</dc:title>
</cp:coreProperties>
</file>