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5AD-C356-415C-97EB-6539AAB8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C2D-9FA3-48BD-BC7D-83BACEF5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B08-EAFA-46DD-BE74-F47340AE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907-7796-4B8B-9AB0-FDD805D1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BB53-1381-40C6-BD67-B77D777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675-0C8A-4DD2-AB9C-DF212397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DAC-8413-4741-971E-DFED4F3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66D-0A44-4B7F-9432-99BEDB08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653-ACDF-4482-B342-A72257F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3E6-43DE-4DED-9056-7F34F9FC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D44-DCF4-4756-AB67-DD59747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EF2-7B19-43D5-8EAA-9B788EE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6A5F-F648-470C-A159-4FC24E19D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800" spc="-1" strike="noStrike" u="sng">
                <a:solidFill>
                  <a:srgbClr val="a50021"/>
                </a:solidFill>
                <a:uFillTx/>
                <a:latin typeface="Times New Roman"/>
              </a:rPr>
              <a:t>Принципи створення та використання електронних посібників на заняттях   інформатики та комп’ютерної техніки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0" i="1" lang="uk-UA" sz="2000" spc="-1" strike="noStrike">
                <a:solidFill>
                  <a:srgbClr val="333300"/>
                </a:solidFill>
                <a:latin typeface="Times New Roman"/>
              </a:rPr>
              <a:t>План виступу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ступ.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лектронні посібники, як сучасна технологія в освіті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гальні вимоги до розробки електронного посібника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Етапи створення навчальних електронних посібників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Інструментальні засоби створення електронного посібника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ереваги та недоліки використання електронних посібників в навчальному процесі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Форми роботи при використанні  електронних посібників та інших комп’ютерних технологій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ичні рекомендації з вивчення кур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еоретичний матері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ктикум для вироблення умінь і навичок застосування теоретичних знань із прикладами виконання завдань і аналізом найчастіше вживаних помил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ртуальний лабораторний практику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відковий матері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лосарі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истему тестування і контролю зн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333360"/>
            <a:ext cx="7777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radley Hand ITC"/>
              </a:rPr>
              <a:t>Вимоги до розробки </a:t>
            </a:r>
            <a:endParaRPr b="0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radley Hand ITC"/>
              </a:rPr>
              <a:t>електронного посібника</a:t>
            </a:r>
            <a:endParaRPr b="0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64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Попередній  етап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ибір навчального курс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изначення рівня загальної підготовки т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івня комп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ютерних зна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Написання тексту  навчального  курс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ідбір ілюстративного і довідкового  матеріал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ворення ескізів інтерфейс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Написання сценарію програми та окремих блок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ізні варіанти представлення навчального матеріал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948360" y="2781360"/>
            <a:ext cx="198612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76120" y="260280"/>
            <a:ext cx="861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Етапи створення навчальних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електронних посібників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Imprint MT Shadow"/>
              </a:rPr>
              <a:t>Рекомендації для підготовчої роботи по створенню електронного посі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творити електронну версію в текстовому редактор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струментальні за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льни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авка зобра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руктурування матері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іпертекстові посил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ереження тексту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форма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cc7a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Основний    е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5688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кур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а  представлення матеріалу: 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гарнітура шриф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- графічні зображен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- апаратні за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6000" y="1197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Безпосередня робота зі створення  навчального кур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eb1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Arial"/>
              </a:rPr>
              <a:t>Завершальний е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64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стування навчального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опрацювання електронного посі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єстрація мультимедіа-курсу як інтелектуальної влас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ираж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провід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тримання   </a:t>
            </a:r>
            <a:r>
              <a:rPr b="0" lang="uk-UA" sz="2800" spc="-1" strike="noStrike" u="sng">
                <a:solidFill>
                  <a:srgbClr val="cc0000"/>
                </a:solidFill>
                <a:uFillTx/>
                <a:latin typeface="Arial"/>
              </a:rPr>
              <a:t>Закону   про    електронні документи та електронний документообі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695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a35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PromtImperial"/>
              </a:rPr>
              <a:t>Інструментальні засоби створення електронного посі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7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Використання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</a:rPr>
              <a:t>-броузері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Мова розмітки гіпертексту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-конвертер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Текстові редактори 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</a:rPr>
              <a:t>Блокнот,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NotePad, WordP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Графічні редактор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FrameMaker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Web Publish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редактори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наприклад,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FrontPage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Педагог має подбати про те, щоб якомога більше органів чуття – око, вухо, голос, чуття мускульних рухів… взяли участь в акті запам’ятову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За такого дружного сприяння всіх органів в акті  засвоєння ви переможете найлінивішу пам'я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К.Ушинс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ксимальний зв’язок з робочою програмою викл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Швидкість оно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фективність проведення контро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ідвищення наоч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кращення продуктивності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іжпредметні з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огічність подання матері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ижча вартість, ніж підру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истанційне навч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333360"/>
            <a:ext cx="749016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nstantia"/>
              </a:rPr>
              <a:t>Переваги використання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nstantia"/>
              </a:rPr>
              <a:t>електронних посібників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8d2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200484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вчення  (або повторення) теми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тосування мультимедійних засобів (презентаці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користа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науково-дослідних завдань і гуртков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ведення опитувань, тестувань, тематичного оцін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амостійна робота студ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333360"/>
            <a:ext cx="820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 роботи при використанні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лектронних посібників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ed2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В и с н о в к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Електронні посібники є складними програмними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Електронний посібник розробляється як відкрит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Ефективність використання ЕП   в учбовому проце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Основа електронної бібліотеки колед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Arial"/>
              </a:rPr>
              <a:t>Інформаційні технології, які використовуються в навчальному проце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335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Електронні біблі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Гібридні біблі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Електронні посіб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Довідково-пошукові системи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Віртуальні лаборатор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Мультимедійні презен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Інтерактивні  т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Функції, які має поєднувати електронний посіб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відково-інформаційний посі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тролююючий засі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3300"/>
                </a:solidFill>
                <a:latin typeface="Georgia"/>
              </a:rPr>
              <a:t>Системний підхі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626120"/>
            <a:ext cx="914400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Використання системного підходу до розробки електронн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навчальних посібників дозволяє зробити серйозний крок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шляху переходу від пізнавальної до прагматичної моделі</a:t>
            </a:r>
            <a:br>
              <a:rPr sz="2200"/>
            </a:b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освіти і сприяє рішенню проблем створення посібників нового</a:t>
            </a:r>
            <a:br>
              <a:rPr sz="2200"/>
            </a:b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покоління, що дають можливі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більшити кількість  користувачі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ідвищити наочність представлення матеріал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користовувати електронний посібник тривалий час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вести до мінімуму витрати на пошук і підбір літератур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дійснювати контроль отриманих зна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828720" y="84240"/>
            <a:ext cx="7345440" cy="523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29200" y="476280"/>
            <a:ext cx="6429600" cy="458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64292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80360" cy="7164360"/>
        </p:xfrm>
        <a:graphic>
          <a:graphicData uri="http://schemas.openxmlformats.org/drawingml/2006/table">
            <a:tbl>
              <a:tblPr/>
              <a:tblGrid>
                <a:gridCol w="1297080"/>
                <a:gridCol w="1008000"/>
                <a:gridCol w="3192480"/>
                <a:gridCol w="3682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поколі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Роки, столітт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Елементна база Е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Основні характеристики Е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Перш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Кінець 40-х – початок 50-х років 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Вакуумні електронні лам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Комп</a:t>
                      </a: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ютерні програми потрібно було писати  в машинних код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Як носії  інформації використовувалися перфострічки, перфокар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Дуже великі габарити  машин (важила така машина десятки тонн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 Невелика швидкодія – декілька тисяч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Велика енергоємні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Трудомісткість програмува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Друг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інець 50-х – початок  60-х років 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Напівпровідникові елементи (транзистори, діод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З</a:t>
                      </a: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явилися мови програмування високого рівня та програмне забезпече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Як носії  інформаціїі застосовувалися магнітні стріч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Користувач працював безпосередньо за пультом керува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Розміри комп’ютера зменшили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Споживання електроенергії зменшило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Швидкодія машин досягла сотень тисяч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Збільшилася ємність запам’ятовуючих пристрої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Третє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Кінець 60-х – початок 80-х років 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Інтегровані пристрої (інтегральні мікросхеми, чіп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Використовувалися термінали (клавіатура, диспле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Магнітні носії інформації витіснили паперов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Розвинулось програмне забезпече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Швидкодія зросла до кількох мільйонів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Складати програми стало можливим простим користувачам, а не тільки спеціалістам-електронщи-кам  завдяки мовам програмування високого рів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Четверт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80-ті 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Великі інтегральні схе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Розробка  однокристальних процесорів (мікро-процесорі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Поява персональних комп’ютер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Перший 4-розрядний  мікропроцесор містив 2250 транзисторів і виконував 60 тис.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 Пізніше збільшилась швидкодія до мільярда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Збільшилась ємність оперативної памят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Поліпшилась зручність у користуванн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Крім ПК, використовувалися також обчислювальні машини-мейнфрейми для виконання складних робі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ят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90-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ті 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Надвеликі  інтегральні схе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Розробка багатопроцесорних сист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Комп</a:t>
                      </a: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ютери-сервери, периферійна техні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Операційні системи з графічним інтерфейс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Швидкодія від 1млрд. до 1 трильйона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Комп</a:t>
                      </a: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ютери були з’єднані в мереж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Прикладні програми використовуються в  різних сфер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5:48:09Z</dcterms:created>
  <dc:creator>User</dc:creator>
  <dc:description/>
  <dc:language>en-US</dc:language>
  <cp:lastModifiedBy>Customer</cp:lastModifiedBy>
  <dcterms:modified xsi:type="dcterms:W3CDTF">2009-09-24T04:33:15Z</dcterms:modified>
  <cp:revision>40</cp:revision>
  <dc:subject/>
  <dc:title>           Принципи створення та використання електронних посібників на заняттях   інформатики та комп’ютерної техніки    План виступу: 1. Вступ. 2. Електронні посібники, як сучасна технологія в освіті 3. Загальні вимоги до розробки електронного посібника 4. Етапи створення навчальних електронних посібників 5. Інструментальні засоби створення електронного посібника 6. Переваги та недоліки використання електронних посібників в навчальному процесі 7. Форми роботи при використанні  електронних посібників та інших комп’ютерних технологій 8. Висновки</dc:title>
</cp:coreProperties>
</file>